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13.png" ContentType="image/png"/>
  <Override PartName="/ppt/media/image8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7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FA63-67A6-4DE5-9A48-560348A4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D24-F8F9-4C07-A3C0-284410E1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count (article for the school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Make Muffins, How to play a game) Recount (article for the school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formation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Make Muffins, How to play a g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ransactional Texts (self introduction letters, invitations, acceptance cards/notes, thank you cards and ema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ok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omparative essayRecount (excursion to Werribee Zoo, City Landmarks, Snakebu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arrative (Role Play, ‘Cat in the Hat’ perform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 nformation Report (Oral presentation on reptiles and marine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cedure (How to play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A148-8DB1-4D0F-BE25-494861F8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F3C8-2776-4B88-BFF9-7FF601CD3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A30-48F3-4E71-9A74-D334AC76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A336-D5E1-4693-AFAF-D66966A0A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CA49-B800-4B24-8107-0B271078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447D-2750-405E-B638-8ABB6F20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E53-1DEF-4975-922E-ACD253AE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8346-EC39-4504-9429-3CCD5CED4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270-EB7E-4202-A524-9008AF66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FF07-5CA9-464E-8F71-B2FE2F04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131F-7D40-4EC7-9CB8-36B978AB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C493-6E46-4F23-A4A7-B7789EAC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1280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2960" y="4754520"/>
            <a:ext cx="50162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54F-67A7-44A5-B1B1-0B07F41C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9716-AE6E-48B3-BC54-4DF3EB48E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9960" y="71280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2960" y="4754520"/>
            <a:ext cx="50162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766-90AA-4DFD-9ACA-6D0902B28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CECC-3503-470E-8549-B36BA109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9AD-C8BF-47BD-BBAD-4E2867628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7AB4-1DEF-4043-928E-0EAB94054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6B3-4C2B-4046-9B8A-618C7BFE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015-11CC-444D-B1EB-B17E1B9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B02-9501-4BF7-9B8F-3A9BF2B4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7CD-23D1-4BBE-B93B-685A1327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96C-B7BC-41B1-8698-16926F74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FFD-CECB-466E-A11C-3A426FC6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91E-8C95-42B6-A12A-5045328F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135-CB1C-424F-9EB1-A9799FA9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5C1-42C5-473B-98B7-A7415CED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C2D-37B3-41DB-9151-E449455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19F-4390-4BB3-8F19-D7B12DC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8B3-EE34-41FA-9EA5-5538B032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33AC-821B-465C-A236-74C7BD62D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gvozdenko.inna.v@edumail.vic.gov.a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7720" y="4114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nna Gvozdenko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atricia Ciuffet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omepage_kids_running"/>
          <p:cNvPicPr/>
          <p:nvPr/>
        </p:nvPicPr>
        <p:blipFill>
          <a:blip r:embed="rId1"/>
          <a:stretch/>
        </p:blipFill>
        <p:spPr>
          <a:xfrm>
            <a:off x="2209680" y="457200"/>
            <a:ext cx="67057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85800" y="28195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EACHING WRITTEN GEN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TO NEW ARR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MAG00218_0000[1]"/>
          <p:cNvPicPr/>
          <p:nvPr/>
        </p:nvPicPr>
        <p:blipFill>
          <a:blip r:embed="rId2"/>
          <a:stretch/>
        </p:blipFill>
        <p:spPr>
          <a:xfrm>
            <a:off x="7543800" y="2971800"/>
            <a:ext cx="1181160" cy="9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7"/>
          <p:cNvGraphicFramePr/>
          <p:nvPr/>
        </p:nvGraphicFramePr>
        <p:xfrm>
          <a:off x="228600" y="457200"/>
          <a:ext cx="182880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"/>
                    <a:ext cx="182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6"/>
          <p:cNvSpPr/>
          <p:nvPr/>
        </p:nvSpPr>
        <p:spPr>
          <a:xfrm>
            <a:off x="533520" y="5867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SL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ansforming ESL pedagogy: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ucating for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uccess in </a:t>
            </a: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Key Activ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066680"/>
          <a:ext cx="8458200" cy="5594400"/>
        </p:xfrm>
        <a:graphic>
          <a:graphicData uri="http://schemas.openxmlformats.org/drawingml/2006/table">
            <a:tbl>
              <a:tblPr/>
              <a:tblGrid>
                <a:gridCol w="914400"/>
                <a:gridCol w="7543800"/>
              </a:tblGrid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activities/experi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 for learning , letters and invitations  deliv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 buddies, play “The Cat in the Hat”, shared reading in small groups songs performed by 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report writing, information reports, excur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 the movie “The Cat in the Hat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 a comparative essay and  a persuasive letter to the editor, information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oral pres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ursion “Snake busters”, games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muffins,  morning tea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posters about  students’ learning experiences (Part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 posters about  students’ learning experiences (Part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“Thank you” cards and  presentations of the term  activit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72B3-0167-4FB2-8D06-426BF4910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Types Targeted in 10 Wee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 (e.g. Letter writing, invita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es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 (Oral presentation on repti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(How to play 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actional tex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of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D11-E3DC-4E8E-9D62-484DA6DDA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election of Text Types- Justification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i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type linked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udent inte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ge appropriat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eco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urriculum expec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type linked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gotiated curriculum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of 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DA5D-4244-403D-B3C6-8479D71D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egotiated Approach in the ESL Classroom (Breen, M. &amp; Littlejohn, A.,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200" y="1471680"/>
            <a:ext cx="80773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ssues opened for negot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General enquiry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How do you feel in a new class? What are your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urpo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are your short/long term goals? What are your expectations of the clas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/student role expect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is your role in class? What do you think the teacher’s role 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What topics would you like to study? What skills do you want to develop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arning to learn: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Do you know your learning style? How do you learn best? What strategies do you use in learning English? What activities do you like/dislike? Where would you like to go on excursio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: How would you like to be assessed? What could be the outcome of the work? What have you learned? Have you achieved your personal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1B9-5975-43AF-9D2F-8625347E5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comes of the negotiation proces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6320" y="914400"/>
          <a:ext cx="9144000" cy="5867280"/>
        </p:xfrm>
        <a:graphic>
          <a:graphicData uri="http://schemas.openxmlformats.org/drawingml/2006/table">
            <a:tbl>
              <a:tblPr/>
              <a:tblGrid>
                <a:gridCol w="2327040"/>
                <a:gridCol w="2327400"/>
                <a:gridCol w="2473200"/>
                <a:gridCol w="2016360"/>
              </a:tblGrid>
              <a:tr h="586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S OF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s of different countr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ve and funny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eb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: Present, Past and Future t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ct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e v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raph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speaking and list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curricular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 new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 about the wor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a good position in 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brave and don’t be afraid of 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z , excur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ing news &amp; mov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ng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 exerci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 work, dr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ing, co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 to 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ing ga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ing so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mar worksheets &amp;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br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writing Letter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ing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l presen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EF7A-7CCB-441D-A703-4682C023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ext type: Information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048120" y="1219320"/>
            <a:ext cx="3886200" cy="173988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Building  background 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ad books about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plicit vocab 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ed DV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dependen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ursion/excur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334120" y="3352680"/>
            <a:ext cx="3504960" cy="146556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Mod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construction of  exemplar informatio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e.g. cloze activ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048120" y="5657760"/>
            <a:ext cx="3733560" cy="119124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Joint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f information report  (model the writing 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228600" y="3048120"/>
            <a:ext cx="3352680" cy="2288520"/>
          </a:xfrm>
          <a:prstGeom prst="rect">
            <a:avLst/>
          </a:prstGeom>
          <a:solidFill>
            <a:srgbClr val="2d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Independent/small group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udents independently construct text with minimum teacher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Planning, drafting, editing, revising and publis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Left Arrow 8"/>
          <p:cNvSpPr/>
          <p:nvPr/>
        </p:nvSpPr>
        <p:spPr>
          <a:xfrm>
            <a:off x="6934320" y="1905120"/>
            <a:ext cx="1447560" cy="1600200"/>
          </a:xfrm>
          <a:custGeom>
            <a:avLst/>
            <a:gdLst>
              <a:gd name="textAreaLeft" fmla="*/ 193680 w 1447560"/>
              <a:gd name="textAreaRight" fmla="*/ 1253880 w 144756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9"/>
          <p:cNvSpPr/>
          <p:nvPr/>
        </p:nvSpPr>
        <p:spPr>
          <a:xfrm>
            <a:off x="6781680" y="47242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rved Left Arrow 12"/>
          <p:cNvSpPr/>
          <p:nvPr/>
        </p:nvSpPr>
        <p:spPr>
          <a:xfrm rot="7564200">
            <a:off x="785880" y="5475960"/>
            <a:ext cx="1285920" cy="1468440"/>
          </a:xfrm>
          <a:custGeom>
            <a:avLst/>
            <a:gdLst>
              <a:gd name="textAreaLeft" fmla="*/ 172080 w 1285920"/>
              <a:gd name="textAreaRight" fmla="*/ 1113840 w 1285920"/>
              <a:gd name="textAreaTop" fmla="*/ 262800 h 1468440"/>
              <a:gd name="textAreaBottom" fmla="*/ 111096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40" stAng="-5400000" swAng="5400000"/>
                <a:lnTo>
                  <a:pt x="21600" y="12469"/>
                </a:lnTo>
                <a:arcTo wR="21600" hR="7740" stAng="0" swAng="3253405"/>
                <a:lnTo>
                  <a:pt x="5400" y="21354"/>
                </a:lnTo>
                <a:lnTo>
                  <a:pt x="0" y="17844"/>
                </a:lnTo>
                <a:lnTo>
                  <a:pt x="5400" y="13841"/>
                </a:lnTo>
                <a:lnTo>
                  <a:pt x="5400" y="15233"/>
                </a:lnTo>
                <a:arcTo wR="21600" hR="7740" stAng="3253405" swAng="-2859915"/>
                <a:lnTo>
                  <a:pt x="20567" y="10104"/>
                </a:lnTo>
                <a:arcTo wR="21600" hR="7740" stAng="-393490" swAng="-5006510"/>
                <a:close/>
              </a:path>
              <a:path fill="darkenLess" w="21600" h="21600">
                <a:moveTo>
                  <a:pt x="0" y="0"/>
                </a:moveTo>
                <a:arcTo wR="21600" hR="7740" stAng="-5400000" swAng="5400000"/>
                <a:lnTo>
                  <a:pt x="21600" y="12469"/>
                </a:lnTo>
                <a:arcTo wR="21600" hR="7740" stAng="0" swAng="-393490"/>
                <a:lnTo>
                  <a:pt x="20567" y="10104"/>
                </a:lnTo>
                <a:arcTo wR="21600" hR="7740" stAng="-393490" swAng="-500651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CC1E-B08E-4325-8BE6-774A2510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 at the Modelling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cod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rep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have hard scales and sharp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eat small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ocodiles live in fres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683-0F47-46F3-8C50-6A171F0A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 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at the Modelling Stag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66680" y="1752480"/>
          <a:ext cx="5143680" cy="5713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icBold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457200" y="4345920"/>
            <a:ext cx="678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047960" y="243828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icBold"/>
                <a:ea typeface="Times New Roman"/>
              </a:rPr>
              <a:t>What are crocodi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66680" y="3048120"/>
          <a:ext cx="5143680" cy="571320"/>
        </p:xfrm>
        <a:graphic>
          <a:graphicData uri="http://schemas.openxmlformats.org/drawingml/2006/table">
            <a:tbl>
              <a:tblPr/>
              <a:tblGrid>
                <a:gridCol w="514368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143000" y="4419720"/>
          <a:ext cx="5105520" cy="57132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icBold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2"/>
          <p:cNvSpPr/>
          <p:nvPr/>
        </p:nvSpPr>
        <p:spPr>
          <a:xfrm>
            <a:off x="114300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feel about </a:t>
            </a:r>
            <a:r>
              <a:rPr b="1" lang="en-US" sz="1400" spc="-1" strike="noStrike">
                <a:solidFill>
                  <a:srgbClr val="000000"/>
                </a:solidFill>
                <a:latin typeface="VicBol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codi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19320" y="5867280"/>
          <a:ext cx="5143320" cy="571680"/>
        </p:xfrm>
        <a:graphic>
          <a:graphicData uri="http://schemas.openxmlformats.org/drawingml/2006/table">
            <a:tbl>
              <a:tblPr/>
              <a:tblGrid>
                <a:gridCol w="5143320"/>
              </a:tblGrid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Rectangle 9"/>
          <p:cNvSpPr/>
          <p:nvPr/>
        </p:nvSpPr>
        <p:spPr>
          <a:xfrm>
            <a:off x="106668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crocodiles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5920" y="12985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icBold"/>
                <a:ea typeface="Times New Roman"/>
              </a:rPr>
              <a:t>Tit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xt Deconstruction Activities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t the Modelling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cod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rep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have _______ scales and _______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eat _______ animal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codiles ar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4592-2D36-464D-AEE8-ADFE77C41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 flipH="1" flipV="1">
            <a:off x="1752480" y="4267080"/>
            <a:ext cx="1339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99072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335268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5943600" y="487692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Use of IC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ublis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wer Point Pres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active White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set of laptops and class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m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300520"/>
          <p:cNvPicPr/>
          <p:nvPr/>
        </p:nvPicPr>
        <p:blipFill>
          <a:blip r:embed="rId1"/>
          <a:stretch/>
        </p:blipFill>
        <p:spPr>
          <a:xfrm>
            <a:off x="2971800" y="5334120"/>
            <a:ext cx="1447920" cy="124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MCj04417230000[1]"/>
          <p:cNvPicPr/>
          <p:nvPr/>
        </p:nvPicPr>
        <p:blipFill>
          <a:blip r:embed="rId2"/>
          <a:stretch/>
        </p:blipFill>
        <p:spPr>
          <a:xfrm>
            <a:off x="525780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434-58A7-4C98-98AC-964EE629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http://www.docudesk.com/deskPDF_Publisher_to_PDF.shtml"/>
          <p:cNvPicPr/>
          <p:nvPr/>
        </p:nvPicPr>
        <p:blipFill>
          <a:blip r:embed="rId3"/>
          <a:stretch/>
        </p:blipFill>
        <p:spPr>
          <a:xfrm>
            <a:off x="4038480" y="2209680"/>
            <a:ext cx="885960" cy="89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The Microsoft Word Icon"/>
          <p:cNvPicPr/>
          <p:nvPr/>
        </p:nvPicPr>
        <p:blipFill>
          <a:blip r:embed="rId4"/>
          <a:stretch/>
        </p:blipFill>
        <p:spPr>
          <a:xfrm>
            <a:off x="2514600" y="1905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http://gizmodo.com/371247/elementary-schools-lego-club-makes-whiteboard-using-wii"/>
          <p:cNvPicPr/>
          <p:nvPr/>
        </p:nvPicPr>
        <p:blipFill>
          <a:blip r:embed="rId5"/>
          <a:stretch/>
        </p:blipFill>
        <p:spPr>
          <a:xfrm>
            <a:off x="7086600" y="327672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cus on various genres (Wh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aching cycle (What ?&amp; Ho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 of ICT (When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lection (So w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4419020000[1]"/>
          <p:cNvPicPr/>
          <p:nvPr/>
        </p:nvPicPr>
        <p:blipFill>
          <a:blip r:embed="rId1"/>
          <a:stretch/>
        </p:blipFill>
        <p:spPr>
          <a:xfrm>
            <a:off x="6951600" y="4267080"/>
            <a:ext cx="2192400" cy="2590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5FB4-93E6-450F-8BEA-265F37454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tudents’ Learning Outco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gazine “16 A+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wo articles for the “Voices” magazine 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ster: “Learning about writing genres: Fun with 16 A and PT7”, displayed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ing a Movie Maker “Our learning journe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oramas about reptiles and oral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wer Point Presentations “Marine Life”, “Snake busters”, “Werribee Zoo” and “City Landmar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ass displays in Room 28 and P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1A5E-170A-473F-8C42-89F96703F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udents’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88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IMA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atah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liked learning about snakes and writing about snak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dila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tried my best to do a beautiful writing in my lette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ECONDARY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Fahmida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I learned how to write with good manners and respect, have good points and then present  the information in Power Poin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ohammad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“The writing of essays  is good because I improve my Englis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C11-15A8-4521-AD1F-4B9FDDACD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04920" y="4495680"/>
          <a:ext cx="8001000" cy="17528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 very conf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re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  and 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ess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eachers’ Reflections on Teaching Gen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igh level student interest in and motivation towards learning about different written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ortance of not making assumptions about students’ background knowledge of particular gen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importance of building knowledge of targeted written genres (i.e. social purpose of different texts, audience, organisational structure, language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uilding understanding of the writing process (i.e. planning, drafting, editing, publication / pres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urriculum Cycle – the need to provide scaffolding through modelling, text deconstruction before expecting students to create targeted texts independ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ile many genres were covered during the 10 week teaching cycle, the following issues emerged for 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  How much knowledge of each text type exposed and explicitly taught did the students ret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 How many text types should be covered in an 10 week program for secondary  and 6 month program for prim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A98-7C77-4878-A6D6-CC754BC2F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king a giant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5334120"/>
            <a:ext cx="85248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3716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I learned how to plan and design a poster. All students were interested in making posters. Primary students gave us some advice. I liked to make posters because they made me happy and showed what we had don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nplsJuly2009 171"/>
          <p:cNvPicPr/>
          <p:nvPr/>
        </p:nvPicPr>
        <p:blipFill>
          <a:blip r:embed="rId2"/>
          <a:srcRect l="0" t="8889" r="0" b="11066"/>
          <a:stretch/>
        </p:blipFill>
        <p:spPr>
          <a:xfrm>
            <a:off x="6095880" y="228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nplsJuly2009 180"/>
          <p:cNvPicPr/>
          <p:nvPr/>
        </p:nvPicPr>
        <p:blipFill>
          <a:blip r:embed="rId3">
            <a:lum bright="14000"/>
          </a:blip>
          <a:srcRect l="5003" t="52754" r="10292" b="0"/>
          <a:stretch/>
        </p:blipFill>
        <p:spPr>
          <a:xfrm>
            <a:off x="0" y="2743200"/>
            <a:ext cx="9144000" cy="2222640"/>
          </a:xfrm>
          <a:prstGeom prst="rect">
            <a:avLst/>
          </a:prstGeom>
          <a:ln w="0">
            <a:noFill/>
          </a:ln>
        </p:spPr>
      </p:pic>
      <p:sp>
        <p:nvSpPr>
          <p:cNvPr id="18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4FA-902B-42E5-A2CE-1C6D4312D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685800" y="129528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reen, M.P. &amp; Littlejohn, A .(2000). (Eds.)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Classroom-decision making: negotiation and process syllabuses in practic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Cambridge University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ewianka, Beverly.(1990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loring How Texts 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tsmouth, NH: Heinem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bons, Pauline.  (2002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affolding Language Scaffolding Learning. Teaching Second Language Learners in the Mainstream Classro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ortsmouth, NH: Heinema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vozdenko, I. (2008). Exit students’ and  their ESL teachers ‘reflection on learning English at NPELS. Mainstream school vis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ammond, J. (2001). Scaffolding and language in Hammond, J. (ed.)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caffolding teaching and learning and literacy education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NSW: primary English teaching Association.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Smith,A., Elley, N, Croft,D &amp;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iuffetelli, P. First Edition (2007).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PM  Writing Teachers' Guide Books (1, 2 &amp;3 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ngage Learning ,South Melbou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57FF-9A68-4E14-9950-983426B13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ents an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vozdenko.inna.v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iuffetelli.patricia.s@edumail.vic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B74-BF77-41F5-A699-BA95E33C0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28600" y="1628640"/>
            <a:ext cx="853452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ELS is a P – 10   Victorian Government school. It has two camp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4 students: 127 primary and 187 secondar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der: males – 166, females – 14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sive English language program for newly arrived refugees and   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of two terms   tuition for students with age   equivalent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4 terms tuition for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risk or with  disrupted sch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1905120" y="99072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oble Park English Languag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1" name="Picture 6" descr="MVC-003S"/>
          <p:cNvPicPr/>
          <p:nvPr/>
        </p:nvPicPr>
        <p:blipFill>
          <a:blip r:embed="rId1"/>
          <a:srcRect l="0" t="0" r="36962" b="0"/>
          <a:stretch/>
        </p:blipFill>
        <p:spPr>
          <a:xfrm>
            <a:off x="5638680" y="4229280"/>
            <a:ext cx="2210040" cy="26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7"/>
          <p:cNvGraphicFramePr/>
          <p:nvPr/>
        </p:nvGraphicFramePr>
        <p:xfrm>
          <a:off x="380880" y="228600"/>
          <a:ext cx="122400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122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8"/>
          <p:cNvSpPr/>
          <p:nvPr/>
        </p:nvSpPr>
        <p:spPr>
          <a:xfrm>
            <a:off x="30492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1752480" y="38088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eaching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C89E-C4EC-4A47-B1A6-966540790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58384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7% of our students and their families have previously lived in refugee camps. Some have attended school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have experienced trauma, seen war and lost family member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udents come from 3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1905120" y="45720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oble Park English Language Scho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380880" y="228600"/>
          <a:ext cx="1224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1224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5"/>
          <p:cNvSpPr/>
          <p:nvPr/>
        </p:nvSpPr>
        <p:spPr>
          <a:xfrm>
            <a:off x="533520" y="4191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udanschool copy"/>
          <p:cNvPicPr/>
          <p:nvPr/>
        </p:nvPicPr>
        <p:blipFill>
          <a:blip r:embed="rId3"/>
          <a:stretch/>
        </p:blipFill>
        <p:spPr>
          <a:xfrm>
            <a:off x="838080" y="3962520"/>
            <a:ext cx="350676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DSC07446.JPG"/>
          <p:cNvPicPr/>
          <p:nvPr/>
        </p:nvPicPr>
        <p:blipFill>
          <a:blip r:embed="rId4"/>
          <a:stretch/>
        </p:blipFill>
        <p:spPr>
          <a:xfrm>
            <a:off x="4800600" y="39625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655-612D-4010-B332-CAA5BBEB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7200" y="2819520"/>
            <a:ext cx="1371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nt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ug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133720" y="2895480"/>
            <a:ext cx="12952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657600" y="2895480"/>
            <a:ext cx="1447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Inten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ES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Arial"/>
              </a:rPr>
              <a:t>NPEL</a:t>
            </a:r>
            <a:r>
              <a:rPr b="0" lang="en-AU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410080" y="2819520"/>
            <a:ext cx="14479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AFE/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162920" y="2819520"/>
            <a:ext cx="14475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ustral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1066680" y="533520"/>
            <a:ext cx="7010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Multiple Transition for new arri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1828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51814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68580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289548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2"/>
          <p:cNvSpPr/>
          <p:nvPr/>
        </p:nvSpPr>
        <p:spPr>
          <a:xfrm>
            <a:off x="792468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 flipV="1">
            <a:off x="449568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4"/>
          <p:cNvSpPr/>
          <p:nvPr/>
        </p:nvSpPr>
        <p:spPr>
          <a:xfrm>
            <a:off x="76201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5"/>
          <p:cNvSpPr/>
          <p:nvPr/>
        </p:nvSpPr>
        <p:spPr>
          <a:xfrm flipV="1">
            <a:off x="61722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7391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akuma camp kenya"/>
          <p:cNvPicPr/>
          <p:nvPr/>
        </p:nvPicPr>
        <p:blipFill>
          <a:blip r:embed="rId1"/>
          <a:stretch/>
        </p:blipFill>
        <p:spPr>
          <a:xfrm>
            <a:off x="0" y="4387680"/>
            <a:ext cx="2514600" cy="247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C:\Program Files\Microsoft Office\Media\CntCD1\ClipArt6\j0292116.wmf"/>
          <p:cNvPicPr/>
          <p:nvPr/>
        </p:nvPicPr>
        <p:blipFill>
          <a:blip r:embed="rId2"/>
          <a:stretch/>
        </p:blipFill>
        <p:spPr>
          <a:xfrm>
            <a:off x="5105520" y="4419720"/>
            <a:ext cx="244620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C:\Program Files\Microsoft Office\Media\CntCD1\Animated\j0283028.gif"/>
          <p:cNvPicPr/>
          <p:nvPr/>
        </p:nvPicPr>
        <p:blipFill>
          <a:blip r:embed="rId3"/>
          <a:stretch/>
        </p:blipFill>
        <p:spPr>
          <a:xfrm>
            <a:off x="6934320" y="4495680"/>
            <a:ext cx="220968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"/>
          <p:cNvPicPr/>
          <p:nvPr/>
        </p:nvPicPr>
        <p:blipFill>
          <a:blip r:embed="rId4"/>
          <a:stretch/>
        </p:blipFill>
        <p:spPr>
          <a:xfrm>
            <a:off x="2514600" y="44197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D82C-9AF6-4CE2-A0CB-D15C9681E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y Focus on Written Gen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PELS  aims  “to improve student learning outcomes in the area of literacy and to further develop the curriculum focus on student oral an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ritten text produc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cross the school” (NPELS, Annual Implementation Plan, 2009 p. 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view data with the exited ESL students and their current ESL teachers has revealed that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PELS students benefit from being exposed to and explicitly taught about a range of writing genre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t their early stage of English language learning       (Gvozdenko, I. 2008, Mainstream school visit repor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ext types are culturally determined, therefore ESL learners are less likely to be familiar with the features  of the text types favoured in our cul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8D8-6779-4471-97B6-30A6EC6E9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Genr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teaching about 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oci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overall organisation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linguistic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AE1-163C-4AD4-8FD8-798E362A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urriculum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: Building Knowledge of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Modeling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Joint Construction of the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Independent Writing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ons, P.  (2002). Derewianka, B.(199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E141-46C4-431A-BDFC-0390845C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genre-based Curriculum Cycle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(Hammond, J., 200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286000" y="1143000"/>
            <a:ext cx="5410080" cy="2044800"/>
          </a:xfrm>
          <a:prstGeom prst="rect">
            <a:avLst/>
          </a:prstGeom>
          <a:solidFill>
            <a:srgbClr val="ffff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Building  the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assumes leadership in developing relevant curriculum knowledge, understanding and language. Activities focus on curriculum, knowledge, language relevant to that curriculum knowledge, reading and learning how to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876920" y="3352680"/>
            <a:ext cx="3962160" cy="149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introduces a specific genre, guides students through explicit talk, demonstration, text d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209680" y="5181480"/>
            <a:ext cx="434340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Joi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eacher shares responsibility with students for writing in the genre through rehearsals, co-constructions, reco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457200" y="3352680"/>
            <a:ext cx="3733920" cy="149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Independen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eacher withdraws support as far as possible as student exercises control over the focus gen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urved Left Arrow 7"/>
          <p:cNvSpPr/>
          <p:nvPr/>
        </p:nvSpPr>
        <p:spPr>
          <a:xfrm>
            <a:off x="7696080" y="17524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urved Left Arrow 8"/>
          <p:cNvSpPr/>
          <p:nvPr/>
        </p:nvSpPr>
        <p:spPr>
          <a:xfrm>
            <a:off x="6858000" y="4952880"/>
            <a:ext cx="1447920" cy="160020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264240 h 1600200"/>
              <a:gd name="textAreaBottom" fmla="*/ 11548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3119449"/>
                <a:lnTo>
                  <a:pt x="5400" y="21373"/>
                </a:lnTo>
                <a:lnTo>
                  <a:pt x="0" y="16715"/>
                </a:lnTo>
                <a:lnTo>
                  <a:pt x="5400" y="11602"/>
                </a:lnTo>
                <a:lnTo>
                  <a:pt x="5400" y="14045"/>
                </a:lnTo>
                <a:arcTo wR="21600" hR="7136" stAng="3119449" swAng="-2707704"/>
                <a:lnTo>
                  <a:pt x="20295" y="9579"/>
                </a:lnTo>
                <a:arcTo wR="21600" hR="7136" stAng="-411745" swAng="-4988255"/>
                <a:close/>
              </a:path>
              <a:path fill="darkenLess" w="21600" h="21600">
                <a:moveTo>
                  <a:pt x="0" y="0"/>
                </a:moveTo>
                <a:arcTo wR="21600" hR="7136" stAng="-5400000" swAng="5400000"/>
                <a:lnTo>
                  <a:pt x="21600" y="12021"/>
                </a:lnTo>
                <a:arcTo wR="21600" hR="7136" stAng="0" swAng="-411745"/>
                <a:lnTo>
                  <a:pt x="20295" y="9579"/>
                </a:lnTo>
                <a:arcTo wR="21600" hR="7136" stAng="-411745" swAng="-498825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rved Left Arrow 9"/>
          <p:cNvSpPr/>
          <p:nvPr/>
        </p:nvSpPr>
        <p:spPr>
          <a:xfrm rot="7564200">
            <a:off x="612360" y="4916160"/>
            <a:ext cx="1212840" cy="1825560"/>
          </a:xfrm>
          <a:custGeom>
            <a:avLst/>
            <a:gdLst>
              <a:gd name="textAreaLeft" fmla="*/ 162360 w 1212840"/>
              <a:gd name="textAreaRight" fmla="*/ 1050480 w 1212840"/>
              <a:gd name="textAreaTop" fmla="*/ 358200 h 1825560"/>
              <a:gd name="textAreaBottom" fmla="*/ 1378080 h 182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78" stAng="-5400000" swAng="5400000"/>
                <a:lnTo>
                  <a:pt x="21600" y="12066"/>
                </a:lnTo>
                <a:arcTo wR="21600" hR="8478" stAng="0" swAng="3399709"/>
                <a:lnTo>
                  <a:pt x="5400" y="21331"/>
                </a:lnTo>
                <a:lnTo>
                  <a:pt x="0" y="18750"/>
                </a:lnTo>
                <a:lnTo>
                  <a:pt x="5400" y="15631"/>
                </a:lnTo>
                <a:lnTo>
                  <a:pt x="5400" y="16687"/>
                </a:lnTo>
                <a:arcTo wR="21600" hR="8478" stAng="3399709" swAng="-3108270"/>
                <a:lnTo>
                  <a:pt x="21111" y="10272"/>
                </a:lnTo>
                <a:arcTo wR="21600" hR="8478" stAng="-291439" swAng="-5108561"/>
                <a:close/>
              </a:path>
              <a:path fill="darkenLess" w="21600" h="21600">
                <a:moveTo>
                  <a:pt x="0" y="0"/>
                </a:moveTo>
                <a:arcTo wR="21600" hR="8478" stAng="-5400000" swAng="5400000"/>
                <a:lnTo>
                  <a:pt x="21600" y="12066"/>
                </a:lnTo>
                <a:arcTo wR="21600" hR="8478" stAng="0" swAng="-291439"/>
                <a:lnTo>
                  <a:pt x="21111" y="10272"/>
                </a:lnTo>
                <a:arcTo wR="21600" hR="8478" stAng="-291439" swAng="-510856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0" y="1295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pportunities for further reflection on the significance of the genre, and for cri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12"/>
          <p:cNvCxnSpPr>
            <a:endCxn id="114" idx="2"/>
          </p:cNvCxnSpPr>
          <p:nvPr/>
        </p:nvCxnSpPr>
        <p:spPr>
          <a:xfrm flipH="1" flipV="1">
            <a:off x="1104480" y="2773080"/>
            <a:ext cx="87696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00:45:54Z</dcterms:created>
  <dc:creator>Inna</dc:creator>
  <dc:description/>
  <dc:language>en-US</dc:language>
  <cp:lastModifiedBy>DEET</cp:lastModifiedBy>
  <dcterms:modified xsi:type="dcterms:W3CDTF">2009-12-02T00:50:55Z</dcterms:modified>
  <cp:revision>171</cp:revision>
  <dc:subject/>
  <dc:title>Slide 1</dc:title>
</cp:coreProperties>
</file>